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A041-6C75-42B5-81E9-30AF1451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971-E8B8-4F0A-B6F1-598C7E71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1CD-002F-406F-907D-1F370215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1E5-A29A-4F73-B021-CAEBF3AF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813-AFB0-4F59-80B7-8D749F13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9A2B-27ED-49F6-803F-95F4CF1B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9601-A3BA-451F-9694-2C9AB7D9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4AE8-E9D7-4082-8365-4B0AA1FF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BFF1-7BBD-46D0-958F-7790F3B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494A-8F24-4C8C-9C43-74ED139C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264-9435-4904-B19F-9F3C604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C00-81AA-4D76-B206-65AB9B8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A3A-7904-4BE3-8035-34B494E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E59-1C21-4AA4-8A49-193250B5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BAA7-11AB-499D-9684-876E5F0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0838-69DD-4F74-9B84-C7A6438F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1A3-C4F0-4C18-B66F-9E0EC5F4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AF3-F4CB-4567-95D6-446DAC32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E01-A3A1-4BDE-A57F-C1A7FDE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4F9-0AD3-4BCF-8B97-604B7C7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4C3-74A7-4F8F-B701-24C6AB50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60F-A3E3-46AC-902E-7FC8C9A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590-1689-4E24-9C69-68EE740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2C4-DE83-436A-9B40-8FFE2E4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4A8-F473-46E2-AE01-30E31E6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BE01-E651-44C3-AC56-F8352A207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49AF-405E-43FB-A34C-AEA982041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pol.tcnj.edu/amer_pol_hist/fi/000000bd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 United State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view Session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thern Social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17920" y="2346480"/>
            <a:ext cx="3908160" cy="3384360"/>
            <a:chOff x="2617920" y="2346480"/>
            <a:chExt cx="3908160" cy="3384360"/>
          </a:xfrm>
        </p:grpSpPr>
        <p:sp>
          <p:nvSpPr>
            <p:cNvPr id="110" name="_s20489"/>
            <p:cNvSpPr/>
            <p:nvPr/>
          </p:nvSpPr>
          <p:spPr>
            <a:xfrm flipV="1">
              <a:off x="4181400" y="2346480"/>
              <a:ext cx="781200" cy="676080"/>
            </a:xfrm>
            <a:custGeom>
              <a:avLst/>
              <a:gdLst>
                <a:gd name="textAreaLeft" fmla="*/ 280080 w 781200"/>
                <a:gd name="textAreaRight" fmla="*/ 501120 w 781200"/>
                <a:gd name="textAreaTop" fmla="*/ 242640 h 676080"/>
                <a:gd name="textAreaBottom" fmla="*/ 433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lanter Cla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0490"/>
            <p:cNvSpPr/>
            <p:nvPr/>
          </p:nvSpPr>
          <p:spPr>
            <a:xfrm flipV="1">
              <a:off x="3790800" y="3021840"/>
              <a:ext cx="1562400" cy="677880"/>
            </a:xfrm>
            <a:custGeom>
              <a:avLst/>
              <a:gdLst>
                <a:gd name="textAreaLeft" fmla="*/ 343440 w 1562400"/>
                <a:gd name="textAreaRight" fmla="*/ 1218960 w 1562400"/>
                <a:gd name="textAreaTop" fmla="*/ 149040 h 677880"/>
                <a:gd name="textAreaBottom" fmla="*/ 5288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Yeomen Farm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0491"/>
            <p:cNvSpPr/>
            <p:nvPr/>
          </p:nvSpPr>
          <p:spPr>
            <a:xfrm flipV="1">
              <a:off x="3398760" y="3699720"/>
              <a:ext cx="2346480" cy="676440"/>
            </a:xfrm>
            <a:custGeom>
              <a:avLst/>
              <a:gdLst>
                <a:gd name="textAreaLeft" fmla="*/ 407160 w 2346480"/>
                <a:gd name="textAreaRight" fmla="*/ 1939320 w 2346480"/>
                <a:gd name="textAreaTop" fmla="*/ 117360 h 676440"/>
                <a:gd name="textAreaBottom" fmla="*/ 55908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House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0492"/>
            <p:cNvSpPr/>
            <p:nvPr/>
          </p:nvSpPr>
          <p:spPr>
            <a:xfrm flipV="1">
              <a:off x="3008160" y="4376160"/>
              <a:ext cx="3127680" cy="677880"/>
            </a:xfrm>
            <a:custGeom>
              <a:avLst/>
              <a:gdLst>
                <a:gd name="textAreaLeft" fmla="*/ 470520 w 3127680"/>
                <a:gd name="textAreaRight" fmla="*/ 2657160 w 3127680"/>
                <a:gd name="textAreaTop" fmla="*/ 101880 h 677880"/>
                <a:gd name="textAreaBottom" fmla="*/ 57600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oor Wh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0493"/>
            <p:cNvSpPr/>
            <p:nvPr/>
          </p:nvSpPr>
          <p:spPr>
            <a:xfrm flipV="1">
              <a:off x="2617920" y="5054760"/>
              <a:ext cx="3908160" cy="676080"/>
            </a:xfrm>
            <a:custGeom>
              <a:avLst/>
              <a:gdLst>
                <a:gd name="textAreaLeft" fmla="*/ 533520 w 3908160"/>
                <a:gd name="textAreaRight" fmla="*/ 3374640 w 3908160"/>
                <a:gd name="textAreaTop" fmla="*/ 92160 h 676080"/>
                <a:gd name="textAreaBottom" fmla="*/ 58392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Field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aternalistic view of slavery held that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was necessary to protect blacks from the mistreatment and abuse they would receive if they were fr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most common form of resistance on the part of black American slaves prior to the Civil War was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lent uprisings in which many persons were k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s to escape and reach Canada by means of the ‘Underground Railroad.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resistance, including breaking tools and slightly slowing the pace of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son of plantation buildings and cotton g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ing of the food consumed by their white mas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nifest Destiny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xa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xican Americ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ster-Ashburton Trea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d R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fest Destiny and Growing Sec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38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n coining the phrase “Manifest Destiny,” journalist John L. O’Sullivan meant that…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ruggle for racial equality was the ultimate goal of America’s exist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was certain to become an independent country sooner 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the destiny of America to overspread the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must eventually become either all slave or all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should seek to acquire an overseas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ne reason for the Anglo-Texan rebellion against Mexican rule was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s opposed sla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 government refused to allow the "Old Three Hundred" to purchase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wanted to break away from a government that had grown too authoritar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objected to the Mexican government's execution of Stephen Aust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uilding Cri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mot Prov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ed Fugitive Slav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sas-Nebraska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ing Ka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ed Scott v. San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any Southerners supported the Compromise of 1850 because i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that cotton be substituted for currency as a medium of exchan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the number of free states and slave states eq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ized slavery in all the newly acquired territor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possible creation of five states out of Tex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return of fugitive s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In the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Dred Scott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case, the Supreme Court ruled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was not a citizen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could not legally sue in a federal co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ssouri Compromise was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had no power to ban slavery from a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ety of the U.S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1800-1859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ing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op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m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i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Reform Attempts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nce, Public Schools, Prison Reform, Asylum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rinciple of ‘popular sovereignty’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nceived by Senator Stephen A. Doug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as part of the Missouri Comprom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entral feature of the Kansas-Nebraska A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licy favored by the Whig Party during the late 1840s and early 185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in solving the impasse over the status of slavery in the terri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Outbreak of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Inaugural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 Sum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War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ncoln won the 1860 Presidential Election primarily because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 was overwhelming support throughout the country for the Republican’s anti-slavery platfor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seen as a moderate by both Northerners and Southerners who could possibly negotiate a compromise between abolitionists and slaveholder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gathered overwhelming support in the highly populated Northern states while his three opponents divided the anti-Lincoln vote in the North, West, and Sou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Know-Nothing Party gave Lincoln its endorsement, and combined with Republican support, the two parties were able to outpoll the politically isolated Democra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able to discredit his chief opponent, Stephen Douglas, as a “closet abolitionist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219320"/>
            <a:ext cx="75438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vantages of Both the North and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Cotton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al cau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mportant Points of the Civil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front:  North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ncipation Procla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ysburg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issuing the Emancipation Proclamation, one of Lincoln’s goals was t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 the active aid of Great Britain and France in restoring the Un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ir up enthusiasm for the war in such border states as Maryland and Kentuc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the radicals in the North by abolishing slavery in the areas of the South already under the control of Union arm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Russia, one of the Union’s few overseas friends, where the serfs had been emancipated the previous y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Britain and France from intervening on the side of the Confede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d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War Life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harecropping system in the South following Reconstruction had the effect of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llowing many former slaves and poor white tenant farmers, who could have never otherwise owned land, to buy their own farm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oving many former slaves and poor white tenant farmers into the middle clas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ushing tenant farmers and poor independent farmers into deep levels of debt to large landowners and merchan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elping to limit the power of former plantation owners and Northern business interes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hanging the basic attitudes of whites and blacks who were now forced to work side by side farming the same land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construction Pla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10 Per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residenti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c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idents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ild Up to the Civil War through the Gilded A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tin Van Buren (1837-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Harrison (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Tyler (1841-184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Polk (1845-184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ary Taylor (1849-185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llard Fillmore (1850-185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nklin Pierce (1853-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Buchanan (1857-186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ham Lincoln (1861-186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rew Johnson (1865-18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ysses S. Grant (1869-18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therford B. Hayes (1877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Garfield (1881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ster Arthur (1881-18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85-18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jamin Harrison (1889-189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93-18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ilded 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ward Expa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/Cor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/Economy/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and Cultural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derick Jackson Turner’s Frontie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stead Act/Exod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continental Rail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tle Industry/Cowbo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Ge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86200" cy="2997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braska Homestea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419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pen-range ranching came to an end due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production of beef and declining pr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support for irrigated agricul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nge wars between cattlemen and sheepher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cattle production in the Midwest and 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ncing of the plains with barbed w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Homestead Act provided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Indians should henceforth own their lands as individuals rather than collectively as trib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0 acres of free land within the public domain to any head of household who would settle on it and improve it over a period of five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amounts of federal government land to Great Plains cattle ranchers who would contract to provide beef for the Union arm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0 acres of land to each former slave above the age of 2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the land of former Confederates should not be confisc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s and Corru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ysses S. Gr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therford B. Ha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Ga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ver Cleve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3623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dustrialization/Economy/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gricul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or Unrest/Labor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usiness/Captains of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of Popu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Inter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ustrialization in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1781280" cy="1390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4143240" cy="322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562720" y="4114800"/>
            <a:ext cx="3276360" cy="2308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0976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only dominant, broad-based labor union in the United States from 1870-1890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Labor 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Workers of the World (IW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Federation of Labor (AF of 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of Industrial Organization (C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ights of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hanging 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th of the Great W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rop in the Birthra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rease in Immig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ing Problems of Urbaniz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nging Roles of Women and Minor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The first "big business" in America, at least in terms of finance, labor relations, and management, was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il refining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lephon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i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el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ilroad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 Why?  Whe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lis Island/Angel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Settlement 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al and Cultural Develop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for the Be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Gospe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n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African-American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ry/Artistic R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Amus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cago’s World’s F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Radio and Fil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cago’ Columbian Expos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4410000" cy="3174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443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 following was among the objectives of Booker T. Washingt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keep up a constant agitation of questions of racial equ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be more militant in demanding their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work hard, acquire property, and prove they were worthy of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rge blacks to accept separate but equal fac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orm an organization to advance the rights of bla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eign Re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ment from Isolationism to Interventio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roe Doctr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Involvement in the Western Hemisphere in 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All of the following encouraged American imperialism at the end of the nineteenth century except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mperi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llow Jour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l views of Alfred Thayer Ma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hich of the following supplied the largest number of immigrants to the United States during the first half of the 19c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rman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term "Cult of Domesticity" refers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arly 19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Century Industrializ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id we go through industrializ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ntions and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se of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tors promoting the beginnings of American industrialization during the early 19</a:t>
            </a:r>
            <a:r>
              <a:rPr b="0" lang="en-US" sz="28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century included all of the following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otective Tarif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s in Trans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-Scale 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sence of craft organizations that tied artisans to a single t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 World-Life in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rian, Division between the Upper and Lower South, Distinct Social Classes, Urban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ts/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to Anti-Slavery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54:12Z</dcterms:created>
  <dc:creator>School District U46</dc:creator>
  <dc:description/>
  <dc:language>en-US</dc:language>
  <cp:lastModifiedBy>School District U46</cp:lastModifiedBy>
  <dcterms:modified xsi:type="dcterms:W3CDTF">2009-04-09T00:01:51Z</dcterms:modified>
  <cp:revision>110</cp:revision>
  <dc:subject/>
  <dc:title>AP United States Review Session</dc:title>
</cp:coreProperties>
</file>